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FC5-CA22-44F7-BAF9-062506DB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0B2-C4F0-4201-8E8B-3A222088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91E-E9BD-400F-A6DD-CB66EBC9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727-FB20-419E-A845-EAC9596B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6925-FEB6-49AA-914E-FC88385B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620A-066C-46CF-BCDA-C7C22D38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F6B3-EFDD-427E-A199-AB1AAC4E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4A71-8900-45DB-AEE2-74A3E1B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69F6-265C-443C-B374-2CD0CACB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C856-7DE5-4469-93A6-34A28A49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850A-6603-4231-B3DD-2A4DC2DF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A35-0678-4BC0-A3D6-DDB97C78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29E7-6413-4D02-9B69-7CC92EEC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C5DA-6DCA-409F-BE44-66F9F707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C657-DB01-48CE-9AB6-A79B1B73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8E7F-FE73-4215-98A6-61D95743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6B4E-9987-4919-88F8-E3A7B4BA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482-B7FC-4051-A2B6-D3B49B3A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B4E-EE66-4DA0-A537-0C97E1F7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687-2F42-4830-AAF9-C92DB483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B84-C967-4925-85E3-DABF536A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85E-C812-4B6B-A75D-4CFC5AE9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A68-87E2-426A-946A-94FFECC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560-A104-46DA-928E-8F3F083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2F2-0515-4AC7-A63E-57BA6DC5A0D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E110-B298-42A0-8BC9-8A6333B6400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2285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lobal Stud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ternational education opportun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pen your door to the future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ternational education is importa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uency in another language is more important than 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1752480"/>
            <a:ext cx="48769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t Involv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12408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ome a volunte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ome an exchange stud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ome a host fam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lobal Stud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ww.GlobalStudents.c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1T18:34:54Z</dcterms:created>
  <dc:creator>Connie Morrison</dc:creator>
  <dc:description/>
  <dc:language>en-US</dc:language>
  <cp:lastModifiedBy>Julie Hotchkiss</cp:lastModifiedBy>
  <dcterms:modified xsi:type="dcterms:W3CDTF">2004-09-24T15:23:01Z</dcterms:modified>
  <cp:revision>16</cp:revision>
  <dc:subject/>
  <dc:title>Participate in the  Global Student Exchange Program</dc:title>
</cp:coreProperties>
</file>